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6FB-1341-4362-9E55-010DD48B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77E-7422-4005-87F8-9C299FAC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3F4-851B-436D-B23E-FD75051D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31C-6E5F-41C6-B990-DA9E8FA1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F85-D07B-451D-AC3B-2B895B9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0EF-CB5B-42BB-AE06-41C83E4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30B-D620-4649-BE83-41C2C0D5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2E0-A711-4448-B68F-DB1E2664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290-2030-4136-A9E9-7DFA9FF2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4C0-453C-4215-8F50-15D1D30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B90-7FD5-4F75-BA92-0BB56AE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DF6-EB26-42E0-B9B4-1E39BFF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FEB-AA53-421F-BC29-690045E3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dip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um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o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557360"/>
            <a:ext cx="3292560" cy="4608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la adopción y el deseo de sa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úsque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490840" cy="430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voca la incertidumbre sobre la identidad, y la búsqueda obsesiva haci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ác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7720" y="2133720"/>
            <a:ext cx="3222720" cy="3252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uent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búsqueda finaliza siendo perjudicado a el mismo, sientiendose así culp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744720" cy="360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referentes 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erda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hica terrible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ja de musica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mento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392280" cy="4309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01:18Z</dcterms:created>
  <dc:creator>PC</dc:creator>
  <dc:description/>
  <dc:language>en-US</dc:language>
  <cp:lastModifiedBy>PC</cp:lastModifiedBy>
  <dcterms:modified xsi:type="dcterms:W3CDTF">2010-04-17T13:55:57Z</dcterms:modified>
  <cp:revision>5</cp:revision>
  <dc:subject/>
  <dc:title>Diapositiva 1</dc:title>
</cp:coreProperties>
</file>